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6C3-8D8E-4C62-83A6-65BDF8D2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46E-36A3-4A9F-81EC-B0FC7F01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77B-CEA8-4AD2-A865-F6121881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586-4ED7-4B7C-AF09-879BBA26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B6FC-94EA-4BFE-9CD8-0FBC3CB4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F099-A52C-4816-9ACA-0DB069E7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BE7D-2184-44BF-B0FD-49361BC6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B345-7B35-4D46-A107-1155A6A2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5DE6-8B9D-437A-9DFD-FF318AFC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0B48-4C0C-4868-AB34-E461EE1D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590C-6B87-4A56-9F63-8809F5BD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81D-4D68-48C7-85D7-22D3DF3B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17D7-411C-4C33-9349-A8C3E650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CD92-D85A-48CE-94FB-E65051CC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B099-1F64-4AD7-BAB3-FECDEC6B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5C97-61B0-4F27-924C-022AEE74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44A1-A919-4AC9-95F0-CFD0C4A8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CE7-E162-448F-B07D-2AC79B1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4B9-65C4-4D12-9A0F-E107BFF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C14-16F4-42B8-92DE-C09A9334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F3A-B959-4133-8302-3A7AE8CD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380-49B3-4CFC-BDC1-93AC428D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7C5-E777-43FE-853F-D59AB4CA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29A-4046-4F5C-B537-2AE06575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9EF5-7048-4E5A-8C95-51DD7D281C2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906D-C659-47B5-9A98-4317104ED52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43240" y="1698840"/>
            <a:ext cx="805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5400" spc="-1" strike="noStrike">
                <a:solidFill>
                  <a:srgbClr val="66ffff"/>
                </a:solidFill>
                <a:latin typeface="Arial"/>
              </a:rPr>
              <a:t>Бизнес-план: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c005e"/>
                </a:solidFill>
                <a:latin typeface="Arial"/>
              </a:rPr>
              <a:t>В</a:t>
            </a:r>
            <a:r>
              <a:rPr b="0" lang="en-US" sz="5400" spc="-1" strike="noStrike">
                <a:solidFill>
                  <a:srgbClr val="ffff6d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ffa3d1"/>
                </a:solidFill>
                <a:latin typeface="Arial"/>
              </a:rPr>
              <a:t>С</a:t>
            </a: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Л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Ы</a:t>
            </a:r>
            <a:r>
              <a:rPr b="0" lang="en-US" sz="5400" spc="-1" strike="noStrike">
                <a:solidFill>
                  <a:srgbClr val="9900ff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bc005e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99ff66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f1988f"/>
                </a:solidFill>
                <a:latin typeface="Arial"/>
              </a:rPr>
              <a:t>С</a:t>
            </a:r>
            <a:r>
              <a:rPr b="0" lang="en-US" sz="5400" spc="-1" strike="noStrike">
                <a:solidFill>
                  <a:srgbClr val="ceeb21"/>
                </a:solidFill>
                <a:latin typeface="Arial"/>
              </a:rPr>
              <a:t>К</a:t>
            </a:r>
            <a:r>
              <a:rPr b="0" lang="en-US" sz="5400" spc="-1" strike="noStrike">
                <a:solidFill>
                  <a:srgbClr val="cc33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65b2ff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С</a:t>
            </a:r>
            <a:r>
              <a:rPr b="0" lang="en-US" sz="5400" spc="-1" strike="noStrike">
                <a:solidFill>
                  <a:srgbClr val="9900ff"/>
                </a:solidFill>
                <a:latin typeface="Arial"/>
              </a:rPr>
              <a:t>К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Изображение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680000" cy="4368960"/>
          </a:xfrm>
          <a:prstGeom prst="rect">
            <a:avLst/>
          </a:prstGeom>
          <a:ln w="0">
            <a:noFill/>
          </a:ln>
        </p:spPr>
      </p:pic>
      <p:pic>
        <p:nvPicPr>
          <p:cNvPr id="214" name="Изображение 008" descr=""/>
          <p:cNvPicPr/>
          <p:nvPr/>
        </p:nvPicPr>
        <p:blipFill>
          <a:blip r:embed="rId2"/>
          <a:srcRect l="0" t="0" r="0" b="5579"/>
          <a:stretch/>
        </p:blipFill>
        <p:spPr>
          <a:xfrm>
            <a:off x="5796000" y="4437000"/>
            <a:ext cx="1347840" cy="1562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67040" y="2730240"/>
            <a:ext cx="2793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        </a:t>
            </a:r>
            <a:r>
              <a:rPr b="1" lang="en-US" sz="14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В</a:t>
            </a:r>
            <a:r>
              <a:rPr b="1" i="1" lang="ru-RU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Е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С</a:t>
            </a:r>
            <a:r>
              <a:rPr b="1" i="1" lang="ru-RU" sz="32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Е</a:t>
            </a:r>
            <a:r>
              <a:rPr b="1" i="1" lang="ru-RU" sz="32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Л</a:t>
            </a:r>
            <a:r>
              <a:rPr b="1" i="1" lang="ru-RU" sz="32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Ы</a:t>
            </a:r>
            <a:r>
              <a:rPr b="1" i="1" lang="ru-RU" sz="32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С</a:t>
            </a:r>
            <a:r>
              <a:rPr b="1" i="1" lang="ru-RU" sz="32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К</a:t>
            </a:r>
            <a:r>
              <a:rPr b="1" i="1" lang="ru-RU" sz="32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Р</a:t>
            </a:r>
            <a:r>
              <a:rPr b="1" i="1" lang="ru-RU" sz="32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С</a:t>
            </a:r>
            <a:r>
              <a:rPr b="1" i="1" lang="ru-RU" sz="3200" spc="-1" strike="noStrike">
                <a:solidFill>
                  <a:srgbClr val="3366ff"/>
                </a:solidFill>
                <a:latin typeface="Comic Sans MS"/>
                <a:ea typeface="Times New Roman"/>
              </a:rPr>
              <a:t>К</a:t>
            </a:r>
            <a:r>
              <a:rPr b="1" i="1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1396000">
            <a:off x="1763280" y="6915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a3d1"/>
                </a:solidFill>
                <a:latin typeface="Tahoma"/>
              </a:rPr>
              <a:t>Эмблема</a:t>
            </a: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a3d1"/>
                </a:solidFill>
                <a:latin typeface="Tahoma"/>
              </a:rPr>
              <a:t>моей фирмы</a:t>
            </a: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193840" y="878760"/>
            <a:ext cx="4685040" cy="5981040"/>
            <a:chOff x="2193840" y="878760"/>
            <a:chExt cx="4685040" cy="5981040"/>
          </a:xfrm>
        </p:grpSpPr>
        <p:sp>
          <p:nvSpPr>
            <p:cNvPr id="218" name=""/>
            <p:cNvSpPr/>
            <p:nvPr/>
          </p:nvSpPr>
          <p:spPr>
            <a:xfrm rot="21510000">
              <a:off x="2348640" y="1075680"/>
              <a:ext cx="4337640" cy="5629680"/>
            </a:xfrm>
            <a:custGeom>
              <a:avLst/>
              <a:gdLst>
                <a:gd name="textAreaLeft" fmla="*/ 383760 w 4337640"/>
                <a:gd name="textAreaRight" fmla="*/ 3953880 w 4337640"/>
                <a:gd name="textAreaTop" fmla="*/ 498240 h 5629680"/>
                <a:gd name="textAreaBottom" fmla="*/ 5131440 h 562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08" y="21600"/>
                  </a:lnTo>
                  <a:lnTo>
                    <a:pt x="292" y="21600"/>
                  </a:lnTo>
                  <a:close/>
                </a:path>
              </a:pathLst>
            </a:custGeom>
            <a:solidFill>
              <a:srgbClr val="ff00ff">
                <a:alpha val="44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19" name="NA02127_" descr=""/>
            <p:cNvPicPr/>
            <p:nvPr/>
          </p:nvPicPr>
          <p:blipFill>
            <a:blip r:embed="rId2">
              <a:lum bright="-6000"/>
              <a:alphaModFix amt="48000"/>
            </a:blip>
            <a:srcRect l="1067" t="0" r="0" b="0"/>
            <a:stretch/>
          </p:blipFill>
          <p:spPr>
            <a:xfrm rot="16290000">
              <a:off x="3364560" y="3721320"/>
              <a:ext cx="5897160" cy="215280"/>
            </a:xfrm>
            <a:prstGeom prst="rect">
              <a:avLst/>
            </a:prstGeom>
            <a:ln w="12600">
              <a:solidFill>
                <a:srgbClr val="00ffff"/>
              </a:solidFill>
              <a:miter/>
            </a:ln>
          </p:spPr>
        </p:pic>
        <p:pic>
          <p:nvPicPr>
            <p:cNvPr id="220" name="NA02127_" descr=""/>
            <p:cNvPicPr/>
            <p:nvPr/>
          </p:nvPicPr>
          <p:blipFill>
            <a:blip r:embed="rId3">
              <a:lum bright="-6000"/>
              <a:alphaModFix amt="48000"/>
            </a:blip>
            <a:srcRect l="0" t="0" r="574" b="0"/>
            <a:stretch/>
          </p:blipFill>
          <p:spPr>
            <a:xfrm rot="16080000">
              <a:off x="-296280" y="3786840"/>
              <a:ext cx="5926320" cy="215280"/>
            </a:xfrm>
            <a:prstGeom prst="rect">
              <a:avLst/>
            </a:prstGeom>
            <a:ln w="12600">
              <a:solidFill>
                <a:srgbClr val="00ffff"/>
              </a:solidFill>
              <a:miter/>
            </a:ln>
          </p:spPr>
        </p:pic>
        <p:pic>
          <p:nvPicPr>
            <p:cNvPr id="221" name="NA02127_" descr=""/>
            <p:cNvPicPr/>
            <p:nvPr/>
          </p:nvPicPr>
          <p:blipFill>
            <a:blip r:embed="rId4">
              <a:lum bright="-6000"/>
              <a:alphaModFix amt="48000"/>
            </a:blip>
            <a:stretch/>
          </p:blipFill>
          <p:spPr>
            <a:xfrm rot="90000">
              <a:off x="2195640" y="1332000"/>
              <a:ext cx="4642560" cy="209520"/>
            </a:xfrm>
            <a:prstGeom prst="rect">
              <a:avLst/>
            </a:prstGeom>
            <a:ln w="12600">
              <a:solidFill>
                <a:srgbClr val="00ffff"/>
              </a:solidFill>
              <a:miter/>
            </a:ln>
          </p:spPr>
        </p:pic>
        <p:pic>
          <p:nvPicPr>
            <p:cNvPr id="222" name="NA02127_" descr=""/>
            <p:cNvPicPr/>
            <p:nvPr/>
          </p:nvPicPr>
          <p:blipFill>
            <a:blip r:embed="rId5">
              <a:lum bright="-6000"/>
              <a:alphaModFix amt="48000"/>
            </a:blip>
            <a:stretch/>
          </p:blipFill>
          <p:spPr>
            <a:xfrm rot="10890000">
              <a:off x="2234160" y="6238800"/>
              <a:ext cx="4642560" cy="209520"/>
            </a:xfrm>
            <a:prstGeom prst="rect">
              <a:avLst/>
            </a:prstGeom>
            <a:ln w="12600">
              <a:solidFill>
                <a:srgbClr val="00ffff"/>
              </a:solidFill>
              <a:miter/>
            </a:ln>
          </p:spPr>
        </p:pic>
      </p:grpSp>
      <p:sp>
        <p:nvSpPr>
          <p:cNvPr id="223" name=""/>
          <p:cNvSpPr txBox="1"/>
          <p:nvPr/>
        </p:nvSpPr>
        <p:spPr>
          <a:xfrm>
            <a:off x="3203640" y="256536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Веселые  раскрас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224" name="Изображение 014" descr=""/>
          <p:cNvPicPr/>
          <p:nvPr/>
        </p:nvPicPr>
        <p:blipFill>
          <a:blip r:embed="rId6"/>
          <a:stretch/>
        </p:blipFill>
        <p:spPr>
          <a:xfrm rot="19935000">
            <a:off x="2987640" y="1699920"/>
            <a:ext cx="587520" cy="49032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25" name="Изображение 017" descr=""/>
          <p:cNvPicPr/>
          <p:nvPr/>
        </p:nvPicPr>
        <p:blipFill>
          <a:blip r:embed="rId7"/>
          <a:stretch/>
        </p:blipFill>
        <p:spPr>
          <a:xfrm>
            <a:off x="4067280" y="1700280"/>
            <a:ext cx="799920" cy="5522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226" name="Изображение 017" descr=""/>
          <p:cNvPicPr/>
          <p:nvPr/>
        </p:nvPicPr>
        <p:blipFill>
          <a:blip r:embed="rId8">
            <a:lum contrast="-6000"/>
          </a:blip>
          <a:stretch/>
        </p:blipFill>
        <p:spPr>
          <a:xfrm rot="1353000">
            <a:off x="5364000" y="1773360"/>
            <a:ext cx="365400" cy="83016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pic>
        <p:nvPicPr>
          <p:cNvPr id="227" name="Изображение 019" descr=""/>
          <p:cNvPicPr/>
          <p:nvPr/>
        </p:nvPicPr>
        <p:blipFill>
          <a:blip r:embed="rId9"/>
          <a:stretch/>
        </p:blipFill>
        <p:spPr>
          <a:xfrm rot="20042400">
            <a:off x="3203280" y="4941360"/>
            <a:ext cx="533160" cy="8002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28" name="Изображение 018" descr=""/>
          <p:cNvPicPr/>
          <p:nvPr/>
        </p:nvPicPr>
        <p:blipFill>
          <a:blip r:embed="rId10">
            <a:lum bright="-6000"/>
          </a:blip>
          <a:stretch/>
        </p:blipFill>
        <p:spPr>
          <a:xfrm rot="20764800">
            <a:off x="4859280" y="5373360"/>
            <a:ext cx="685800" cy="44460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229" name=""/>
          <p:cNvSpPr/>
          <p:nvPr/>
        </p:nvSpPr>
        <p:spPr>
          <a:xfrm rot="21430800">
            <a:off x="2336040" y="2592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еклама моей фирм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SA550742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1959120" cy="3085920"/>
          </a:xfrm>
          <a:prstGeom prst="rect">
            <a:avLst/>
          </a:prstGeom>
          <a:ln w="0">
            <a:noFill/>
          </a:ln>
        </p:spPr>
      </p:pic>
      <p:pic>
        <p:nvPicPr>
          <p:cNvPr id="231" name="SA550741" descr=""/>
          <p:cNvPicPr/>
          <p:nvPr/>
        </p:nvPicPr>
        <p:blipFill>
          <a:blip r:embed="rId3"/>
          <a:stretch/>
        </p:blipFill>
        <p:spPr>
          <a:xfrm>
            <a:off x="1979640" y="765000"/>
            <a:ext cx="1977840" cy="3086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15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8000" y="196560"/>
            <a:ext cx="62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59dd"/>
                </a:solidFill>
                <a:latin typeface="Arial"/>
                <a:ea typeface="Times New Roman"/>
              </a:rPr>
              <a:t>Гипсовая   фигурка  </a:t>
            </a:r>
            <a:r>
              <a:rPr b="0" lang="en-US" sz="1600" spc="-1" strike="noStrike">
                <a:solidFill>
                  <a:srgbClr val="f359dd"/>
                </a:solidFill>
                <a:latin typeface="Arial"/>
              </a:rPr>
              <a:t>№1</a:t>
            </a:r>
            <a:r>
              <a:rPr b="0" lang="en-US" sz="1600" spc="-1" strike="noStrike">
                <a:solidFill>
                  <a:srgbClr val="f359dd"/>
                </a:solidFill>
                <a:latin typeface="Arial"/>
                <a:ea typeface="Times New Roman"/>
              </a:rPr>
              <a:t>  девочк</a:t>
            </a:r>
            <a:r>
              <a:rPr b="0" lang="en-US" sz="1600" spc="-1" strike="noStrike">
                <a:solidFill>
                  <a:srgbClr val="f359dd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f359dd"/>
                </a:solidFill>
                <a:latin typeface="Arial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66120" y="3861000"/>
            <a:ext cx="979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359dd"/>
              </a:buClr>
              <a:buFont typeface="Wingdings 2" charset="2"/>
              <a:buChar char="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Через 3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Оставить заготовку на  3 дня для полного  высых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Раскрасить  фигурку  по образцу  или по собственному воображени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359dd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Покрыть  фигурку лаком; для  блеска и закрепления  краски.(дня  через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  <a:ea typeface="Times New Roman"/>
              </a:rPr>
              <a:t>2-3  после окраск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2165400" cy="4176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127240" cy="410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-11160" y="4371480"/>
            <a:ext cx="9155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Через 3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Оставить заготовку на  3 дня для полного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высыхания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16040" y="18828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Фигурка  №2: Мальч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774520" y="188640"/>
            <a:ext cx="36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Фигурка  №</a:t>
            </a: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: Мишка на лодк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2262240" cy="3095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2209680" cy="3024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-226440" y="4005360"/>
            <a:ext cx="960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Через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266760" y="5392800"/>
            <a:ext cx="893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Оставить заготовку на  3 дня для полного  высых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Раскрасить  фигурку  по образцу  или по собственному воображени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Покрыть  фигурку лаком; для  блеска и закрепления  краски.(дня  через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2-3  после окраск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1714320" cy="3429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1714680" cy="3543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62520" y="11520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Фигурка  №</a:t>
            </a: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: Ослик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523800" y="4294440"/>
            <a:ext cx="1020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Через 2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Оставить заготовку на  3 дня для полного  высых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Раскрасить  фигурку  по образцу  или по собственному воображени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Покрыть  фигурку лаком; для  блеска и закрепления  краски.(дня  через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2-3  после окраск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3000" y="4004640"/>
            <a:ext cx="297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359dd"/>
              </a:buClr>
              <a:buFont typeface="Wingdings 2" charset="2"/>
              <a:buChar char="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000680" cy="1963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059280" y="2708280"/>
            <a:ext cx="2514600" cy="1228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-226440" y="3934080"/>
            <a:ext cx="9608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Технологическая карт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В  пластмассовую  емкость  поместить необходимое количества  гипс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Постепенно заливая  гипс  по норме водой, размешивать  массу  в течения  50 се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Залить формочку  подготовленной смесью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Через 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0 мин. готовую  фигурку  осторожно извлеч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Оставить заготовку на  3 дня для полного  высыха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Раскрасить  фигурку  по образцу  или по собственному воображени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Покрыть  фигурку лаком; для  блеска и закрепления  краски.(дня  через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2-3  после окраски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6160" y="18828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Собака на коврике.</a:t>
            </a:r>
            <a:r>
              <a:rPr b="0" lang="en-US" sz="1800" spc="-1" strike="noStrike">
                <a:solidFill>
                  <a:srgbClr val="f359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7240" y="1882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Фигурка  №</a:t>
            </a:r>
            <a:r>
              <a:rPr b="1" lang="en-US" sz="1800" spc="-1" strike="noStrike">
                <a:solidFill>
                  <a:srgbClr val="f359dd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f359dd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359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1:20:00Z</dcterms:created>
  <dc:creator>Vahan</dc:creator>
  <dc:description/>
  <dc:language>en-US</dc:language>
  <cp:lastModifiedBy>Лариса Сергеевна</cp:lastModifiedBy>
  <dcterms:modified xsi:type="dcterms:W3CDTF">2007-12-10T14:27:53Z</dcterms:modified>
  <cp:revision>3</cp:revision>
  <dc:subject/>
  <dc:title>Слайд 1</dc:title>
</cp:coreProperties>
</file>